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8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19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23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19AC-BEB4-4301-AAD5-D2B31F97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D25F-4B23-45FE-98C0-4F993E47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663B-F6F7-4C62-99A9-2E9155895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C520-CFD5-41E7-9854-DA2C1E91D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E992-321D-4B86-A823-C602DFB8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streaming of educational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00 hours of educational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episodes of Reading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educational serie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D image is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135-6EF7-4BB2-9C68-C5952C34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903-01A0-47B1-8217-FAB8A458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0FB-D5B4-4643-BB6F-586C62BB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E01-306D-48AC-8FCB-FCE5307D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90E9-B6DE-4F20-A339-0EBB17BB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B121-8F9B-460A-BB8C-9BAE6F34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7028-19A8-40E6-8DD6-26C7F9A7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CECF-D2FA-4759-BDDB-2BA067C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878F-D146-4CCC-80AE-658FD851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3E54-505C-4816-9C78-41C94E65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8B49-FD52-496B-BCA1-8EAF9409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07B-0768-4E2C-B11A-40D6715B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ACB1-D682-43A7-A6D6-75CD6E4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560D-E434-41B4-956C-584636BE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6EE9-72D6-4188-A8D3-93569445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50EC-3286-41DC-9B75-8B23296E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3B21-7970-41AA-A0E3-C5C6EE00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D7B-8674-409A-84DE-BB37E119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FA6-50B1-45C2-A001-D5C1196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6899-D74F-47EE-BF4A-FF75FE45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1A7-2B91-4942-B370-5AF9152A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2605-994C-4E51-B21E-5D40EB1B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7693-A85E-4297-9626-5156661B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6F40-A954-4F0A-A568-A1693067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89CA-6630-4FCB-A49C-3CD068E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3213-8464-45C2-9AC9-7CDF468B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B83B-27C9-4361-B9CC-166AB67E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5DBE-D1E7-4F16-89B0-35DDEC4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6944-8FA1-47BA-BE54-BAE1E0E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4F23-CE67-4831-8EDA-03DBC145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01F9-2639-4FCB-AE11-399B7A9F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6C5-6DC6-4575-B562-837107CD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56D6-2EED-49C4-8764-6D408B65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2C6-E854-4E4B-BD85-545A1C5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73B-E746-421A-9065-29580E7B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E05-22F0-41A9-BDD3-292E8CB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66CC-6BDF-44EF-9703-03C84178D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D074-6445-4D51-9880-1CF34EF99F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4354-4C33-4C23-8E83-18FEDAD4E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mooreketresources.wikispaces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-792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Exploring the Depths! Diving into KET’s Water Resource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1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3" name="Picture 9" descr="C:\Documents and Settings\larry.moore.KET\Local Settings\Temporary Internet Files\Content.IE5\TQ7TJME1\MC900024568[1].wmf"/>
          <p:cNvPicPr/>
          <p:nvPr/>
        </p:nvPicPr>
        <p:blipFill>
          <a:blip r:embed="rId5"/>
          <a:stretch/>
        </p:blipFill>
        <p:spPr>
          <a:xfrm rot="19235400">
            <a:off x="4485960" y="864720"/>
            <a:ext cx="3738600" cy="274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6"/>
          <a:stretch/>
        </p:blipFill>
        <p:spPr>
          <a:xfrm>
            <a:off x="2438280" y="4194000"/>
            <a:ext cx="1122480" cy="987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"/>
          <p:cNvPicPr/>
          <p:nvPr/>
        </p:nvPicPr>
        <p:blipFill>
          <a:blip r:embed="rId7"/>
          <a:stretch/>
        </p:blipFill>
        <p:spPr>
          <a:xfrm>
            <a:off x="1371600" y="4267080"/>
            <a:ext cx="7621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ter Solu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911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ef online video 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point-source water pol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nheim Forest (Grades 4-12)</a:t>
            </a:r>
            <a:br>
              <a:rPr sz="1800"/>
            </a:br>
            <a:br>
              <a:rPr sz="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vel to the Bernheim Forest Visitor Center, a LEED-certified green structure designed to conserve and protect water, and see a stream restoration site and a Cypress-Tupelo swam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 Mine Drainage (Grades 6-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it southeastern Kentucky to learn about water pollution from abandoned coal mines and how biologists, hydrologists, chemists, and geologists are reversing its damaging effec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6" descr="vc_fall07_pond"/>
          <p:cNvPicPr/>
          <p:nvPr/>
        </p:nvPicPr>
        <p:blipFill>
          <a:blip r:embed="rId1"/>
          <a:stretch/>
        </p:blipFill>
        <p:spPr>
          <a:xfrm>
            <a:off x="5715000" y="4191120"/>
            <a:ext cx="3040200" cy="2288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vc_interior"/>
          <p:cNvPicPr/>
          <p:nvPr/>
        </p:nvPicPr>
        <p:blipFill>
          <a:blip r:embed="rId2"/>
          <a:stretch/>
        </p:blipFill>
        <p:spPr>
          <a:xfrm>
            <a:off x="509904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31" descr="Screen shot 2011-05-01 at 5"/>
          <p:cNvPicPr/>
          <p:nvPr/>
        </p:nvPicPr>
        <p:blipFill>
          <a:blip r:embed="rId3"/>
          <a:srcRect l="0" t="0" r="50006" b="1272"/>
          <a:stretch/>
        </p:blipFill>
        <p:spPr>
          <a:xfrm>
            <a:off x="5410080" y="1371600"/>
            <a:ext cx="3124440" cy="9777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032"/>
          <p:cNvSpPr/>
          <p:nvPr/>
        </p:nvSpPr>
        <p:spPr>
          <a:xfrm>
            <a:off x="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Available on KET Teachers’ Domain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covery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student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eaching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M 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ve At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 overvi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expla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 pa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2036880" y="6248520"/>
            <a:ext cx="48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www.ket.org/encyclomedia.htm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80" name="Picture 8" descr="Screen shot 2011-05-02 at 10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2666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Screen shot 2011-05-02 at 10"/>
          <p:cNvPicPr/>
          <p:nvPr/>
        </p:nvPicPr>
        <p:blipFill>
          <a:blip r:embed="rId2"/>
          <a:stretch/>
        </p:blipFill>
        <p:spPr>
          <a:xfrm>
            <a:off x="3124080" y="4835520"/>
            <a:ext cx="5626080" cy="126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575d1">
            <a:alpha val="9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2438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y DE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5105520" y="533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Back-to-Schoo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84" name="Picture 6" descr="Picture 1.png"/>
          <p:cNvPicPr/>
          <p:nvPr/>
        </p:nvPicPr>
        <p:blipFill>
          <a:blip r:embed="rId1"/>
          <a:stretch/>
        </p:blipFill>
        <p:spPr>
          <a:xfrm>
            <a:off x="171360" y="1481040"/>
            <a:ext cx="5119920" cy="4353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my de proto"/>
          <p:cNvPicPr/>
          <p:nvPr/>
        </p:nvPicPr>
        <p:blipFill>
          <a:blip r:embed="rId2"/>
          <a:stretch/>
        </p:blipFill>
        <p:spPr>
          <a:xfrm>
            <a:off x="3581280" y="1143000"/>
            <a:ext cx="5562720" cy="1022364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4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4213080" cy="3108240"/>
          </a:xfrm>
          <a:prstGeom prst="rect">
            <a:avLst/>
          </a:prstGeom>
          <a:ln w="0">
            <a:noFill/>
          </a:ln>
        </p:spPr>
      </p:pic>
      <p:pic>
        <p:nvPicPr>
          <p:cNvPr id="287" name="TextBox 5" descr=""/>
          <p:cNvPicPr/>
          <p:nvPr/>
        </p:nvPicPr>
        <p:blipFill>
          <a:blip r:embed="rId4"/>
          <a:stretch/>
        </p:blipFill>
        <p:spPr>
          <a:xfrm>
            <a:off x="30240" y="5973840"/>
            <a:ext cx="4389480" cy="579240"/>
          </a:xfrm>
          <a:prstGeom prst="rect">
            <a:avLst/>
          </a:prstGeom>
          <a:ln w="0">
            <a:noFill/>
          </a:ln>
        </p:spPr>
      </p:pic>
      <p:sp>
        <p:nvSpPr>
          <p:cNvPr id="288" name="Action Button: Custom 8"/>
          <p:cNvSpPr/>
          <p:nvPr/>
        </p:nvSpPr>
        <p:spPr>
          <a:xfrm>
            <a:off x="0" y="5943600"/>
            <a:ext cx="3581280" cy="609480"/>
          </a:xfrm>
          <a:custGeom>
            <a:avLst/>
            <a:gdLst>
              <a:gd name="textAreaLeft" fmla="*/ 39240 w 3581280"/>
              <a:gd name="textAreaRight" fmla="*/ 3542040 w 358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6859" h="21600">
                <a:moveTo>
                  <a:pt x="0" y="0"/>
                </a:moveTo>
                <a:lnTo>
                  <a:pt x="126859" y="0"/>
                </a:lnTo>
                <a:lnTo>
                  <a:pt x="126859" y="21600"/>
                </a:lnTo>
                <a:lnTo>
                  <a:pt x="0" y="21600"/>
                </a:lnTo>
                <a:close/>
              </a:path>
              <a:path fill="lightenLess" w="126859" h="21600">
                <a:moveTo>
                  <a:pt x="0" y="0"/>
                </a:moveTo>
                <a:lnTo>
                  <a:pt x="126859" y="0"/>
                </a:lnTo>
                <a:lnTo>
                  <a:pt x="125459" y="1400"/>
                </a:lnTo>
                <a:lnTo>
                  <a:pt x="1400" y="1400"/>
                </a:lnTo>
                <a:close/>
              </a:path>
              <a:path fill="darken" w="126859" h="21600">
                <a:moveTo>
                  <a:pt x="126859" y="0"/>
                </a:moveTo>
                <a:lnTo>
                  <a:pt x="126859" y="21600"/>
                </a:lnTo>
                <a:lnTo>
                  <a:pt x="125459" y="20200"/>
                </a:lnTo>
                <a:lnTo>
                  <a:pt x="125459" y="1400"/>
                </a:lnTo>
                <a:close/>
              </a:path>
              <a:path fill="darkenLess" w="126859" h="21600">
                <a:moveTo>
                  <a:pt x="126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459" y="20200"/>
                </a:lnTo>
                <a:close/>
              </a:path>
              <a:path fill="lighten" w="126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575d1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scovery Education Teach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Picture 4.png"/>
          <p:cNvPicPr/>
          <p:nvPr/>
        </p:nvPicPr>
        <p:blipFill>
          <a:blip r:embed="rId1"/>
          <a:stretch/>
        </p:blipFill>
        <p:spPr>
          <a:xfrm>
            <a:off x="838080" y="1079640"/>
            <a:ext cx="7802640" cy="1003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371600"/>
            <a:ext cx="853416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resenter today is:  Larry Mo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228600" y="25146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ay’s presentation is practically paper-free!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 complete information about the resources presented today, go to this website: http://www.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ction Button: Custom 7">
            <a:hlinkClick r:id="rId1"/>
          </p:cNvPr>
          <p:cNvSpPr/>
          <p:nvPr/>
        </p:nvSpPr>
        <p:spPr>
          <a:xfrm>
            <a:off x="228600" y="2362320"/>
            <a:ext cx="7924680" cy="1218960"/>
          </a:xfrm>
          <a:custGeom>
            <a:avLst/>
            <a:gdLst>
              <a:gd name="textAreaLeft" fmla="*/ 78840 w 7924680"/>
              <a:gd name="textAreaRight" fmla="*/ 7845840 w 79246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140390" h="21600">
                <a:moveTo>
                  <a:pt x="0" y="0"/>
                </a:moveTo>
                <a:lnTo>
                  <a:pt x="140390" y="0"/>
                </a:lnTo>
                <a:lnTo>
                  <a:pt x="140390" y="21600"/>
                </a:lnTo>
                <a:lnTo>
                  <a:pt x="0" y="21600"/>
                </a:lnTo>
                <a:close/>
              </a:path>
              <a:path fill="lightenLess" w="140390" h="21600">
                <a:moveTo>
                  <a:pt x="0" y="0"/>
                </a:moveTo>
                <a:lnTo>
                  <a:pt x="140390" y="0"/>
                </a:lnTo>
                <a:lnTo>
                  <a:pt x="138990" y="1400"/>
                </a:lnTo>
                <a:lnTo>
                  <a:pt x="1400" y="1400"/>
                </a:lnTo>
                <a:close/>
              </a:path>
              <a:path fill="darken" w="140390" h="21600">
                <a:moveTo>
                  <a:pt x="140390" y="0"/>
                </a:moveTo>
                <a:lnTo>
                  <a:pt x="140390" y="21600"/>
                </a:lnTo>
                <a:lnTo>
                  <a:pt x="138990" y="20200"/>
                </a:lnTo>
                <a:lnTo>
                  <a:pt x="138990" y="1400"/>
                </a:lnTo>
                <a:close/>
              </a:path>
              <a:path fill="darkenLess" w="140390" h="21600">
                <a:moveTo>
                  <a:pt x="140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90" y="20200"/>
                </a:lnTo>
                <a:close/>
              </a:path>
              <a:path fill="lighten" w="140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222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gency FB"/>
              </a:rPr>
              <a:t>Exploring the Depths! Diving Into KET’s Water Resources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0" name="Picture 8" descr="C:\Documents and Settings\larry.moore.KET\Local Settings\Temporary Internet Files\Content.IE5\SZCA89FD\MC900390686[1].wmf"/>
          <p:cNvPicPr/>
          <p:nvPr/>
        </p:nvPicPr>
        <p:blipFill>
          <a:blip r:embed="rId2"/>
          <a:stretch/>
        </p:blipFill>
        <p:spPr>
          <a:xfrm>
            <a:off x="0" y="3962520"/>
            <a:ext cx="3200400" cy="2697120"/>
          </a:xfrm>
          <a:prstGeom prst="rect">
            <a:avLst/>
          </a:prstGeom>
          <a:ln w="0">
            <a:noFill/>
          </a:ln>
        </p:spPr>
      </p:pic>
      <p:sp>
        <p:nvSpPr>
          <p:cNvPr id="221" name="Oval 9"/>
          <p:cNvSpPr/>
          <p:nvPr/>
        </p:nvSpPr>
        <p:spPr>
          <a:xfrm>
            <a:off x="3124080" y="502920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3276720" y="46483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3048120" y="5181480"/>
            <a:ext cx="7596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3581280" y="4114800"/>
            <a:ext cx="228600" cy="228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1295280" y="44956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1371600" y="42670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1371600" y="40384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1371600" y="38098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205704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oday’s trai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about H2O resources on the new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KET EncycloMedia, now a three prong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media clearing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xplore KET’s latest H2O related web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more aware of KET’s other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educator resources and servic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8600" y="2221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gency FB"/>
              </a:rPr>
              <a:t>Exploring the Depths! KET’s Water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3" name="Picture 2" descr="C:\Documents and Settings\larry.moore.KET\Local Settings\Temporary Internet Files\Content.IE5\TQ7TJME1\MC900320968[1].wmf"/>
          <p:cNvPicPr/>
          <p:nvPr/>
        </p:nvPicPr>
        <p:blipFill>
          <a:blip r:embed="rId1"/>
          <a:stretch/>
        </p:blipFill>
        <p:spPr>
          <a:xfrm>
            <a:off x="380880" y="990720"/>
            <a:ext cx="1824120" cy="963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larry.moore.KET\Local Settings\Temporary Internet Files\Content.IE5\TQ7TJME1\MC900318678[1].wmf"/>
          <p:cNvPicPr/>
          <p:nvPr/>
        </p:nvPicPr>
        <p:blipFill>
          <a:blip r:embed="rId2"/>
          <a:stretch/>
        </p:blipFill>
        <p:spPr>
          <a:xfrm>
            <a:off x="7543800" y="5029200"/>
            <a:ext cx="139392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Water Resour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Rectangle 1027"/>
          <p:cNvSpPr/>
          <p:nvPr/>
        </p:nvSpPr>
        <p:spPr>
          <a:xfrm>
            <a:off x="4648320" y="1417680"/>
            <a:ext cx="4419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tions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unneling For Water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indrops to River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T to A Watershed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et H2O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T STEM Collect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een Careers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een Science: STEM Career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co-Kids Explore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rtual Physics Lab Addition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T to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lle of Louisville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7" name="Picture 7" descr="RRtoR"/>
          <p:cNvPicPr/>
          <p:nvPr/>
        </p:nvPicPr>
        <p:blipFill>
          <a:blip r:embed="rId1"/>
          <a:stretch/>
        </p:blipFill>
        <p:spPr>
          <a:xfrm>
            <a:off x="380880" y="1295280"/>
            <a:ext cx="1905120" cy="13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GreenScience"/>
          <p:cNvPicPr/>
          <p:nvPr/>
        </p:nvPicPr>
        <p:blipFill>
          <a:blip r:embed="rId2"/>
          <a:stretch/>
        </p:blipFill>
        <p:spPr>
          <a:xfrm>
            <a:off x="2362320" y="43434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force_table.jpg"/>
          <p:cNvPicPr/>
          <p:nvPr/>
        </p:nvPicPr>
        <p:blipFill>
          <a:blip r:embed="rId3"/>
          <a:stretch/>
        </p:blipFill>
        <p:spPr>
          <a:xfrm>
            <a:off x="380880" y="2666880"/>
            <a:ext cx="1905120" cy="1579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density_lab.jpg"/>
          <p:cNvPicPr/>
          <p:nvPr/>
        </p:nvPicPr>
        <p:blipFill>
          <a:blip r:embed="rId4"/>
          <a:stretch/>
        </p:blipFill>
        <p:spPr>
          <a:xfrm>
            <a:off x="2362320" y="2666880"/>
            <a:ext cx="1904760" cy="1603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scalecity.jpg"/>
          <p:cNvPicPr/>
          <p:nvPr/>
        </p:nvPicPr>
        <p:blipFill>
          <a:blip r:embed="rId5"/>
          <a:stretch/>
        </p:blipFill>
        <p:spPr>
          <a:xfrm>
            <a:off x="2371680" y="1303200"/>
            <a:ext cx="190512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Screen shot 2011-05-02 at 1"/>
          <p:cNvPicPr/>
          <p:nvPr/>
        </p:nvPicPr>
        <p:blipFill>
          <a:blip r:embed="rId6"/>
          <a:stretch/>
        </p:blipFill>
        <p:spPr>
          <a:xfrm>
            <a:off x="374760" y="4343400"/>
            <a:ext cx="191124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7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8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ED On Demand</a:t>
            </a:r>
            <a:br>
              <a:rPr sz="44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line streaming of P-12 instructional programs for Kentucky public schools and teach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0" y="297144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300 hours of instructional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00 educational seri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 episode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ding Rainb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KET_ED_OnDemand"/>
          <p:cNvPicPr/>
          <p:nvPr/>
        </p:nvPicPr>
        <p:blipFill>
          <a:blip r:embed="rId1"/>
          <a:stretch/>
        </p:blipFill>
        <p:spPr>
          <a:xfrm>
            <a:off x="457200" y="3124080"/>
            <a:ext cx="4038480" cy="1762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link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Planet H</a:t>
            </a:r>
            <a:r>
              <a:rPr b="0" i="1" lang="en-US" sz="4400" spc="-1" strike="noStrike" baseline="-4000">
                <a:solidFill>
                  <a:srgbClr val="ffffff"/>
                </a:solidFill>
                <a:latin typeface="Arial Black"/>
              </a:rPr>
              <a:t>2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5181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 case studies show students Grades 4-9 how young students and professionals are helping to solve the growing problems of widespread overuse and abuse of water, our planet’s</a:t>
            </a:r>
            <a:r>
              <a:rPr b="0" lang="st-Z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recious and limited resour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isode topic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face Water: A Day in th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 of the Rio Gra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ground Aquifer Water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on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nking Water: Bottle or T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eaning Polluted Water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mped Up for P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oring H</a:t>
            </a:r>
            <a:r>
              <a:rPr b="0" lang="en-US" sz="1800" spc="-1" strike="noStrike" baseline="-2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Ecosystem: Saving Chesapeake B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eat Lakes: Who Owns the Wat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</a:t>
            </a:r>
            <a:r>
              <a:rPr b="0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KET ED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6" descr="Screen shot 2011-05-02 at 1"/>
          <p:cNvPicPr/>
          <p:nvPr/>
        </p:nvPicPr>
        <p:blipFill>
          <a:blip r:embed="rId2"/>
          <a:stretch/>
        </p:blipFill>
        <p:spPr>
          <a:xfrm>
            <a:off x="4876920" y="2743200"/>
            <a:ext cx="3936960" cy="292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Teachers’ Dom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extensive library of free, searc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assroom and professional development resources created by KET, WGBH-Boston, and other PBS and national producer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of the resources that will be available in KET Teachers’ Domain this year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ing Education in Kentucky PD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day 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neling for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L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032" descr="Screen shot 2011-05-02 at 9"/>
          <p:cNvPicPr/>
          <p:nvPr/>
        </p:nvPicPr>
        <p:blipFill>
          <a:blip r:embed="rId1"/>
          <a:stretch/>
        </p:blipFill>
        <p:spPr>
          <a:xfrm>
            <a:off x="4648320" y="2133720"/>
            <a:ext cx="4267080" cy="753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33" descr="Screen shot 2011-05-02 at 9"/>
          <p:cNvPicPr/>
          <p:nvPr/>
        </p:nvPicPr>
        <p:blipFill>
          <a:blip r:embed="rId2"/>
          <a:stretch/>
        </p:blipFill>
        <p:spPr>
          <a:xfrm>
            <a:off x="7651800" y="3048120"/>
            <a:ext cx="1111320" cy="33526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304920" y="61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ket.org/encyclomedia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1" name="Action Button: Custom 8"/>
          <p:cNvSpPr/>
          <p:nvPr/>
        </p:nvSpPr>
        <p:spPr>
          <a:xfrm>
            <a:off x="228600" y="6095880"/>
            <a:ext cx="4267080" cy="533520"/>
          </a:xfrm>
          <a:custGeom>
            <a:avLst/>
            <a:gdLst>
              <a:gd name="textAreaLeft" fmla="*/ 34560 w 4267080"/>
              <a:gd name="textAreaRight" fmla="*/ 4232520 w 4267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72654" h="21600">
                <a:moveTo>
                  <a:pt x="0" y="0"/>
                </a:moveTo>
                <a:lnTo>
                  <a:pt x="172654" y="0"/>
                </a:lnTo>
                <a:lnTo>
                  <a:pt x="172654" y="21600"/>
                </a:lnTo>
                <a:lnTo>
                  <a:pt x="0" y="21600"/>
                </a:lnTo>
                <a:close/>
              </a:path>
              <a:path fill="lightenLess" w="172654" h="21600">
                <a:moveTo>
                  <a:pt x="0" y="0"/>
                </a:moveTo>
                <a:lnTo>
                  <a:pt x="172654" y="0"/>
                </a:lnTo>
                <a:lnTo>
                  <a:pt x="171254" y="1400"/>
                </a:lnTo>
                <a:lnTo>
                  <a:pt x="1400" y="1400"/>
                </a:lnTo>
                <a:close/>
              </a:path>
              <a:path fill="darken" w="172654" h="21600">
                <a:moveTo>
                  <a:pt x="172654" y="0"/>
                </a:moveTo>
                <a:lnTo>
                  <a:pt x="172654" y="21600"/>
                </a:lnTo>
                <a:lnTo>
                  <a:pt x="171254" y="20200"/>
                </a:lnTo>
                <a:lnTo>
                  <a:pt x="171254" y="1400"/>
                </a:lnTo>
                <a:close/>
              </a:path>
              <a:path fill="darkenLess" w="172654" h="21600">
                <a:moveTo>
                  <a:pt x="172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254" y="20200"/>
                </a:lnTo>
                <a:close/>
              </a:path>
              <a:path fill="lighten" w="172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2" name="Picture 7" descr="tunneling"/>
          <p:cNvPicPr/>
          <p:nvPr/>
        </p:nvPicPr>
        <p:blipFill>
          <a:blip r:embed="rId3"/>
          <a:stretch/>
        </p:blipFill>
        <p:spPr>
          <a:xfrm>
            <a:off x="4749840" y="3200400"/>
            <a:ext cx="271764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31" descr="Screen shot 2011-05-01 at 5"/>
          <p:cNvPicPr/>
          <p:nvPr/>
        </p:nvPicPr>
        <p:blipFill>
          <a:blip r:embed="rId4"/>
          <a:srcRect l="0" t="0" r="50006" b="1272"/>
          <a:stretch/>
        </p:blipFill>
        <p:spPr>
          <a:xfrm>
            <a:off x="4749840" y="4867200"/>
            <a:ext cx="2717640" cy="12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unneling for Wat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911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ed by Louisville Water Company, these four videos for grades 4-6 document the creation of four wells and a mile-long tunnel that use riverbank filtration to supply water to homes and busin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llection inclu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logy and the Ohio River Tunnel 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the Riverbank Filtration 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ging the Tunnel and Prehistoric Water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ging the Well and Treating the W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acher Materi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7" descr="tunneling"/>
          <p:cNvPicPr/>
          <p:nvPr/>
        </p:nvPicPr>
        <p:blipFill>
          <a:blip r:embed="rId1"/>
          <a:stretch/>
        </p:blipFill>
        <p:spPr>
          <a:xfrm>
            <a:off x="4800600" y="1600200"/>
            <a:ext cx="4038480" cy="1298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Screen shot 2011-05-02 at 3"/>
          <p:cNvPicPr/>
          <p:nvPr/>
        </p:nvPicPr>
        <p:blipFill>
          <a:blip r:embed="rId2"/>
          <a:stretch/>
        </p:blipFill>
        <p:spPr>
          <a:xfrm>
            <a:off x="6858000" y="42670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Screen shot 2011-05-02 at 3"/>
          <p:cNvPicPr/>
          <p:nvPr/>
        </p:nvPicPr>
        <p:blipFill>
          <a:blip r:embed="rId3"/>
          <a:stretch/>
        </p:blipFill>
        <p:spPr>
          <a:xfrm>
            <a:off x="4800600" y="5410080"/>
            <a:ext cx="2298600" cy="1284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Screen shot 2011-05-02 at 3"/>
          <p:cNvPicPr/>
          <p:nvPr/>
        </p:nvPicPr>
        <p:blipFill>
          <a:blip r:embed="rId4"/>
          <a:stretch/>
        </p:blipFill>
        <p:spPr>
          <a:xfrm>
            <a:off x="4800600" y="2971800"/>
            <a:ext cx="2286000" cy="125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0" y="6064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Available on KET Teachers’ Domain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11-06-22T01:44:38Z</dcterms:modified>
  <cp:revision>465</cp:revision>
  <dc:subject/>
  <dc:title>Slide 1</dc:title>
</cp:coreProperties>
</file>